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Yann LE MOAN" initials="YL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9-11-30T16:08:33.585000000" idx="1">
    <p:pos x="4404" y="1815"/>
    <p:text>Lawrence, this is not possible for me. We could change by: this Pilot Project should hav as less as possible impact at MS level.
Or even delete the row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2228362-4B19-4A9D-AA9A-AA20CD41AD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41D36A4-8D8A-4A2B-A4D6-F33913FFA9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64B-F10B-47DC-90A3-6987931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69-AA2A-4F98-A397-FFB0ADDB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57C-65A8-4E2F-A950-C6974C9B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6AA-0B30-4CE4-9DAB-395072AB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60E-443E-40E0-A982-C298B096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F08-C800-4C54-90C0-16A7A540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602-6780-4EA3-8E48-0113225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E18-6BF5-40A6-B0EB-7D1F52C6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100-CE31-4CFC-8C91-C66DB796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991-DDC4-4650-82C9-7F6CFCF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411-29D0-462A-B4FD-AA07E95A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56B-8BED-40BD-8F1B-570D569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2b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9674-0D0B-409B-AA27-15FD8BC285B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46D1-6088-4173-94E7-7725BB7B3E9D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48000" y="1341360"/>
            <a:ext cx="558000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VTS/RADAR info through 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lot Project on Maritime Surveil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go, 4 Decem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rence Sciber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itime Surveill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1: Request of a VTS message for a specific vessel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Uses the MRS message philosophy as a basis for VTS message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scope of this message is to have access to  real-time information and also to non-real time enriched message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imed to identify cooperative target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Useful for those VTSs and/or authorities that are interested to receive information about specific ships outside their area of competence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1525-4A60-448E-9F79-BDFCD0BEBABE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1: Request to search a vessel</a:t>
            </a:r>
            <a:br>
              <a:rPr sz="2800"/>
            </a:br>
            <a:r>
              <a:rPr b="1" lang="en-US" sz="1200" spc="-1" strike="noStrike">
                <a:solidFill>
                  <a:srgbClr val="0078c7"/>
                </a:solidFill>
                <a:latin typeface="Verdana"/>
              </a:rPr>
              <a:t>Request of a VTS message for a specific vessel</a:t>
            </a:r>
            <a:endParaRPr b="1" lang="en-US" sz="12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7995-6113-447C-8742-37D9CCF75CE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"/>
          <p:cNvGrpSpPr/>
          <p:nvPr/>
        </p:nvGrpSpPr>
        <p:grpSpPr>
          <a:xfrm>
            <a:off x="1643040" y="2214720"/>
            <a:ext cx="5829480" cy="4044960"/>
            <a:chOff x="1643040" y="2214720"/>
            <a:chExt cx="5829480" cy="4044960"/>
          </a:xfrm>
        </p:grpSpPr>
        <p:pic>
          <p:nvPicPr>
            <p:cNvPr id="80" name="Picture 8" descr=""/>
            <p:cNvPicPr/>
            <p:nvPr/>
          </p:nvPicPr>
          <p:blipFill>
            <a:blip r:embed="rId2"/>
            <a:srcRect l="4345" t="10016" r="50210" b="7339"/>
            <a:stretch/>
          </p:blipFill>
          <p:spPr>
            <a:xfrm>
              <a:off x="1643040" y="2214720"/>
              <a:ext cx="582948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7"/>
            <p:cNvSpPr/>
            <p:nvPr/>
          </p:nvSpPr>
          <p:spPr>
            <a:xfrm>
              <a:off x="5014800" y="3476160"/>
              <a:ext cx="2428560" cy="270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V Icarus</a:t>
              </a: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506760" y="3602160"/>
              <a:ext cx="11181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lsink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3506760" y="5115960"/>
              <a:ext cx="11181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li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3258360" y="4611240"/>
              <a:ext cx="630000" cy="159840"/>
            </a:xfrm>
            <a:prstGeom prst="wedgeRectCallout">
              <a:avLst>
                <a:gd name="adj1" fmla="val 66430"/>
                <a:gd name="adj2" fmla="val -221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3600" bIns="3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333333"/>
                  </a:solidFill>
                  <a:latin typeface="Arial"/>
                  <a:ea typeface="Times New Roman"/>
                </a:rPr>
                <a:t>MV  Icar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"/>
            <p:cNvSpPr/>
            <p:nvPr/>
          </p:nvSpPr>
          <p:spPr>
            <a:xfrm>
              <a:off x="1766880" y="2340720"/>
              <a:ext cx="199800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here is vessel </a:t>
              </a: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1" lang="en-GB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V Icarus</a:t>
              </a:r>
              <a:r>
                <a:rPr b="1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2" descr=""/>
            <p:cNvPicPr/>
            <p:nvPr/>
          </p:nvPicPr>
          <p:blipFill>
            <a:blip r:embed="rId3"/>
            <a:srcRect l="0" t="0" r="7340" b="3684"/>
            <a:stretch/>
          </p:blipFill>
          <p:spPr>
            <a:xfrm>
              <a:off x="5039640" y="3664440"/>
              <a:ext cx="2376360" cy="249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2: Exchange of VTS imag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Based on the sharing of real time images of VTSs areas (cooperative targets)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haring could be done through SSN by ‘inter system VTS Traffic Image Exchange (VTIE) – which is being developed by IALA (IVEF)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rvice is oriented towards VTSs that are willing to exchange images between adjacent VTSs in real time mode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ontent of message to be further studied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VTSs images could be further enriched thru’ SSN – to be also evaluated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640-FFE9-44EF-BFF5-CE58476AF18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2: ‘Barcelona’ traffic image </a:t>
            </a:r>
            <a:r>
              <a:rPr b="1" lang="en-US" sz="1400" spc="-1" strike="noStrike">
                <a:solidFill>
                  <a:srgbClr val="0078c7"/>
                </a:solidFill>
                <a:latin typeface="Verdana"/>
              </a:rPr>
              <a:t>Exchange of VTS image</a:t>
            </a:r>
            <a:endParaRPr b="1" lang="en-US" sz="1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3C9-F626-4EB4-818D-1E16B4AC48C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1571760" y="2143080"/>
            <a:ext cx="5829120" cy="3772080"/>
            <a:chOff x="1571760" y="2143080"/>
            <a:chExt cx="5829120" cy="3772080"/>
          </a:xfrm>
        </p:grpSpPr>
        <p:pic>
          <p:nvPicPr>
            <p:cNvPr id="94" name="Picture 4" descr=""/>
            <p:cNvPicPr/>
            <p:nvPr/>
          </p:nvPicPr>
          <p:blipFill>
            <a:blip r:embed="rId2"/>
            <a:srcRect l="4500" t="10583" r="50185" b="8661"/>
            <a:stretch/>
          </p:blipFill>
          <p:spPr>
            <a:xfrm>
              <a:off x="1571760" y="2143080"/>
              <a:ext cx="5829120" cy="37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2965680" y="3256920"/>
              <a:ext cx="1140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celo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2"/>
            <p:cNvSpPr/>
            <p:nvPr/>
          </p:nvSpPr>
          <p:spPr>
            <a:xfrm>
              <a:off x="3725640" y="5361480"/>
              <a:ext cx="3548160" cy="37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82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at is the traffic image of VTS Barcelona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3: Exchange of Radar image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By using STIRES architecture it is technically possible to exchange radar images between two areas monitored by radar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could provide the traffic image in the same way as provided by STIR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VEF solution to be further explor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Radar information can be correlated with AIS data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Vessels not fitted with AIS will be displayed on the screen as non cooperativ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non identified)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target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013-B877-4CEA-9C09-9F6AC55BEA00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cenario 3: Traffic image between France and Italy </a:t>
            </a:r>
            <a:br>
              <a:rPr sz="2800"/>
            </a:br>
            <a:r>
              <a:rPr b="1" lang="en-US" sz="1200" spc="-1" strike="noStrike">
                <a:solidFill>
                  <a:srgbClr val="0078c7"/>
                </a:solidFill>
                <a:latin typeface="Verdana"/>
              </a:rPr>
              <a:t>Exchange of Radar image</a:t>
            </a: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0E6-8FD6-46A5-A836-147CC5269D6F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1785960" y="2425680"/>
            <a:ext cx="6057720" cy="3882960"/>
            <a:chOff x="1785960" y="2425680"/>
            <a:chExt cx="6057720" cy="3882960"/>
          </a:xfrm>
        </p:grpSpPr>
        <p:grpSp>
          <p:nvGrpSpPr>
            <p:cNvPr id="104" name="Group 7"/>
            <p:cNvGrpSpPr/>
            <p:nvPr/>
          </p:nvGrpSpPr>
          <p:grpSpPr>
            <a:xfrm>
              <a:off x="1785960" y="2425680"/>
              <a:ext cx="6057720" cy="3882960"/>
              <a:chOff x="1785960" y="2425680"/>
              <a:chExt cx="6057720" cy="3882960"/>
            </a:xfrm>
          </p:grpSpPr>
          <p:pic>
            <p:nvPicPr>
              <p:cNvPr id="105" name="Picture 9" descr=""/>
              <p:cNvPicPr/>
              <p:nvPr/>
            </p:nvPicPr>
            <p:blipFill>
              <a:blip r:embed="rId2"/>
              <a:srcRect l="4453" t="9638" r="50127" b="7087"/>
              <a:stretch/>
            </p:blipFill>
            <p:spPr>
              <a:xfrm>
                <a:off x="1785960" y="2425680"/>
                <a:ext cx="6057720" cy="388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8"/>
              <p:cNvSpPr/>
              <p:nvPr/>
            </p:nvSpPr>
            <p:spPr>
              <a:xfrm>
                <a:off x="1917360" y="6006960"/>
                <a:ext cx="3028680" cy="24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Traffic image between France and Ita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7" name="Object 6"/>
            <p:cNvGraphicFramePr/>
            <p:nvPr/>
          </p:nvGraphicFramePr>
          <p:xfrm>
            <a:off x="1900080" y="2537280"/>
            <a:ext cx="114120" cy="201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0080" y="2537280"/>
                      <a:ext cx="11412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5"/>
            <p:cNvSpPr/>
            <p:nvPr/>
          </p:nvSpPr>
          <p:spPr>
            <a:xfrm>
              <a:off x="2128680" y="2537280"/>
              <a:ext cx="159984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Non-identified targ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Picture 4" descr="BD18238_"/>
            <p:cNvPicPr/>
            <p:nvPr/>
          </p:nvPicPr>
          <p:blipFill>
            <a:blip r:embed="rId5"/>
            <a:stretch/>
          </p:blipFill>
          <p:spPr>
            <a:xfrm>
              <a:off x="3384000" y="3794400"/>
              <a:ext cx="75600" cy="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" descr="BD18238_"/>
            <p:cNvPicPr/>
            <p:nvPr/>
          </p:nvPicPr>
          <p:blipFill>
            <a:blip r:embed="rId6"/>
            <a:stretch/>
          </p:blipFill>
          <p:spPr>
            <a:xfrm>
              <a:off x="4757400" y="3108600"/>
              <a:ext cx="75600" cy="9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" descr="BD18238_"/>
            <p:cNvPicPr/>
            <p:nvPr/>
          </p:nvPicPr>
          <p:blipFill>
            <a:blip r:embed="rId7"/>
            <a:stretch/>
          </p:blipFill>
          <p:spPr>
            <a:xfrm>
              <a:off x="6243480" y="3908520"/>
              <a:ext cx="75600" cy="9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ny Questions?</a:t>
            </a:r>
            <a:br>
              <a:rPr sz="2400"/>
            </a:b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Purpose of the concept paper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explain the concept behind the exchange of VTS / radar info thru’ SSN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outline the benefits of such exchange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rrelation of information: VTS / Radar images using the SSN as the distribution platform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Will have the possibility to examine tracks of ships that are not fitted with AIS or not transmitting AI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C829-5049-460C-A6F6-249EBDFCAF97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User requirements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The success of this pilot project is highly dependent on the operational needs of MS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FRONTEX has already confirmed that they are interested in the exchange of radar image, in particular scenario 3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Technical solution must be clearly defined by MS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Standardization of interfaces – thos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veloped by EMSA and MSs -  i.e IEC, IVEF.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9990-997B-4E91-9148-4D3DF07947FF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ost implications for EMSA still unknown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s ideally should not incur any cost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Operational needs to be defined by MSs as these might have a bearing on the project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realisation of this pilot project is highly dependent on how MSs will standardize the way radar images will be exchanged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93D-1715-4550-8531-3EA1C7CE358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Planning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6160" y="476280"/>
            <a:ext cx="86374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Similarities and Difference between VTS/Radar exchange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360" y="2420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VTS is well established and regulated by IMO.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To improve the safety and efficiency of vessel traffic and to protect the environment.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2b71"/>
                </a:solidFill>
                <a:latin typeface="Verdana"/>
              </a:rPr>
              <a:t>Has the capability interacting with traffic and can respond to traffic situations.</a:t>
            </a:r>
            <a:endParaRPr b="0" lang="en-US" sz="28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2068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4055-62BF-4FA8-AD2E-8D63280DE940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Similarities and Difference between VTS/Radar exchange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of Radar Image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is a new concept and is not regulat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ld be of added value to maritime surveillance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of radar image /VT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ru’ SSN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ld add extra value to MSs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the traffic image would be further enhanced (more information from VTSs)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-identified targets could be monitored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Legal Framework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184464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VTS messages are defined by the VTMIS Directive;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Directive 2002/59 EC makes direct reference to VTS and the exchange of Mandatory Reporting Systems (MRS)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Radar images – no particular legal instruments in place - FRONTEX would be ideal to define such parameters due to their interest in locating non-cooperati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on identified)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 targets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Exchange Radar images might not be easy due to national operational constraints (military networks)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373-CD21-4146-B041-361BB2735553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ources of information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or VTS and radar exchange the primary source of identifying a targets’ position and time stamp is radar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VTS message: contains richer information i.e. vessel identification, cargo and voyage data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Non VTS radar message contains only vessels’ position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rse, speed,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 track identity and time stamp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Radar message (outside of VTS areas) is a subset of the VTS/MRS message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raffic image could be optimised by Exchange of VTS/radar thru’ SSN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18960" indent="-31896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561B-9FD1-4F9A-A5B7-E9F48567959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nalysis of the Operational Need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In order to better understand the operational  scenarios, the concept paper is identifying three different yet practical examples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Scenario 1: Request of a VTS message for a specific vessels (cooperative targets)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Scenario 2: Exchange of VTS image (cooperative targets)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2b71"/>
                </a:solidFill>
                <a:latin typeface="Verdana"/>
              </a:rPr>
              <a:t>Scenario 3: Exchange of Radar image (non-coperative targets)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7EB-DB50-4AF9-86A1-24E7A16514A3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2:56:40Z</dcterms:created>
  <dc:creator>sessisa</dc:creator>
  <dc:description/>
  <dc:language>en-US</dc:language>
  <cp:lastModifiedBy>Lawrence SCIBERRAS</cp:lastModifiedBy>
  <cp:lastPrinted>2004-03-26T09:05:49Z</cp:lastPrinted>
  <dcterms:modified xsi:type="dcterms:W3CDTF">2009-12-02T11:26:54Z</dcterms:modified>
  <cp:revision>821</cp:revision>
  <dc:subject/>
  <dc:title>Slide 1</dc:title>
</cp:coreProperties>
</file>